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5F8-FB52-4EC2-8153-12600CFC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333A-2C5E-456E-AF72-5517E38E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9C9-7F55-4AA2-B103-81A4335F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7D5-328F-44A7-A5B6-64112C21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CCC-35A6-42E9-BD6D-6214819E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7AB-7ED4-45E5-94FF-9BDB6F35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336-9908-4165-AAA4-6303D93B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AAD-7A67-4DF2-A2C2-0301BF0F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15B-54C8-4892-A3CF-AAD25D84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9A1-B4D3-4DF0-A38F-9465EB53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CF3-797C-4CB0-8DA4-44C31C28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FD1-45B7-4F50-8C86-7B0ED7A0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B0AB-08B2-4701-A9DD-41F267228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hyperlink" Target="http://www.guyshachar.com/" TargetMode="External"/><Relationship Id="rId9" Type="http://schemas.openxmlformats.org/officeDocument/2006/relationships/hyperlink" Target="http://www.guyshachar.com/" TargetMode="External"/><Relationship Id="rId10" Type="http://schemas.openxmlformats.org/officeDocument/2006/relationships/hyperlink" Target="http://www.guyshachar.com/" TargetMode="External"/><Relationship Id="rId1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ahai_general_0589" descr=""/>
          <p:cNvPicPr/>
          <p:nvPr/>
        </p:nvPicPr>
        <p:blipFill>
          <a:blip r:embed="rId1">
            <a:lum contrast="6000"/>
          </a:blip>
          <a:srcRect l="0" t="0" r="0" b="80010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370240" y="2575080"/>
            <a:ext cx="469872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מאז שהייתי ילד אני אוהב את חיפה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1600" y="3124080"/>
            <a:ext cx="510516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I have liked Haifa ever since I was a k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ahai_general_0589" descr=""/>
          <p:cNvPicPr/>
          <p:nvPr/>
        </p:nvPicPr>
        <p:blipFill>
          <a:blip r:embed="rId2">
            <a:lum contrast="6000"/>
          </a:blip>
          <a:srcRect l="0" t="76672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Yefe_nof_night_view_137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2927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Yefe_nof_night_view_137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927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06840" y="144360"/>
            <a:ext cx="4618080" cy="1310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המבנים המיוחדים של כיפת הבהאים, ממגורות דגון, המנופים בנמל, הניווט של אבא ברחובות המתפתלים, הנוף המופלא מהכרמל אל הים...</a:t>
            </a:r>
            <a:br>
              <a:rPr sz="1600"/>
            </a:b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חיפה הייתה מבוך קסמים שמסתיר הרבה הפתעות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840" y="152280"/>
            <a:ext cx="4611600" cy="1067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The unique structures of the Bahai temple, Dagon granary, the cranes in the port, Dad maneuvering the meandering streets… Haifa was a magical maze hiding many surprises</a:t>
            </a: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Uni_Rabin_408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2927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80880"/>
            <a:ext cx="317520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0880" y="228600"/>
            <a:ext cx="3886200" cy="1067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It was only when I grew up that I found the perfect excuse to get to know Haifa better: study at its Univers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28600"/>
            <a:ext cx="423684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רק כשגדלתי, מצאתי את התירוץ המושלם להכיר את חיפה מקרוב: ללמוד שם באוניברסיטה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Uni_lookout_474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029200" y="101520"/>
            <a:ext cx="4002120" cy="167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200" spc="-1" strike="noStrike">
                <a:solidFill>
                  <a:srgbClr val="ccccff"/>
                </a:solidFill>
                <a:latin typeface="Arial"/>
                <a:cs typeface="Narkisim"/>
              </a:rPr>
              <a:t>פרוייקט חיפה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56440" y="826920"/>
            <a:ext cx="27493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ccccff"/>
                </a:solidFill>
                <a:latin typeface="Arial"/>
                <a:cs typeface="Narkisim"/>
              </a:rPr>
              <a:t>פרק א' - מבו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01680"/>
            <a:ext cx="487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Verdana"/>
              </a:rPr>
              <a:t>The Haifa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2120" y="879480"/>
            <a:ext cx="3046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Verdan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Uni_lookout_4743a" descr=""/>
          <p:cNvPicPr/>
          <p:nvPr/>
        </p:nvPicPr>
        <p:blipFill>
          <a:blip r:embed="rId1"/>
          <a:srcRect l="0" t="36672" r="0" b="0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23760"/>
            <a:ext cx="4844880" cy="1310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In all the coastal towns of Israel, moving along the coast means you advance north or south. Driving from Carmel beach towards the port, you actually turn 135 degrees. </a:t>
            </a:r>
            <a:br>
              <a:rPr sz="1600"/>
            </a:b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This mount Carmel and the gulf of Haif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31680"/>
            <a:ext cx="4237200" cy="2898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בכל ערי החוף בישראל, כשמתקדמים לאורך הים הולכים צפונה או דרומה. כשנעים לאורך הים בחיפה מחוף הכרמל לאזור הנמל מגלים שבלי להרגיש עושים תפנית של כ-</a:t>
            </a:r>
            <a:r>
              <a:rPr b="1" lang="he-IL" sz="1600" spc="-1" strike="noStrike">
                <a:solidFill>
                  <a:srgbClr val="ccccff"/>
                </a:solidFill>
                <a:latin typeface="Arial"/>
                <a:ea typeface="Arial"/>
              </a:rPr>
              <a:t>135</a:t>
            </a:r>
            <a:r>
              <a:rPr b="1" lang="he-IL" sz="1600" spc="-1" strike="noStrike">
                <a:solidFill>
                  <a:srgbClr val="ccccff"/>
                </a:solidFill>
                <a:latin typeface="Arial"/>
                <a:ea typeface="Arial"/>
              </a:rPr>
              <a:t> מעלות.  והכל בגלל רכס הכרמל שנשפך לים ויצר את המפרץ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תוסיפו לזה את השכונות ההרריות, הואדיות המבתרים את העיר, והכבישים המתפתלים בכל מקום, ותקבלו עיר שאינה מובנת מאליה כלל וכלל, ויוצרת אנטגוניזם בקרב מי שאינו מכיר אותה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640" y="1400040"/>
            <a:ext cx="4844880" cy="1067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Add the mountainous residential areas, the creeks dissecting the city, the meandering roads, and you have a city which is far from “straight forward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Uni_lookout_4743a" descr=""/>
          <p:cNvPicPr/>
          <p:nvPr/>
        </p:nvPicPr>
        <p:blipFill>
          <a:blip r:embed="rId1"/>
          <a:srcRect l="0" t="34451" r="0" b="0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104760"/>
            <a:ext cx="3886200" cy="1924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500</a:t>
            </a: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 </a:t>
            </a: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meters above sea level, on Eshkol Tower’s 30</a:t>
            </a:r>
            <a:r>
              <a:rPr b="1" lang="en-US" sz="1600" spc="-1" strike="noStrike" baseline="30000">
                <a:solidFill>
                  <a:srgbClr val="ccccff"/>
                </a:solidFill>
                <a:latin typeface="Arial"/>
                <a:ea typeface="David"/>
              </a:rPr>
              <a:t>th</a:t>
            </a: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 floor, is one of the best viewpoints in Israel</a:t>
            </a: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Except for views to Mt. Hermon in the north and Tel Aviv in the south, this is the best place to start a tour of Haifa and become orient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31680"/>
            <a:ext cx="4237200" cy="2411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מאה מטר מעל מפלס האוניברסיטה, ולמעלה מחמש מאות מטרים מעל פני הים, שוכנת אחת מנקודות התצפית המשובחות בישראל – </a:t>
            </a:r>
            <a:br>
              <a:rPr sz="1600"/>
            </a:b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התצפית מקומה </a:t>
            </a:r>
            <a:r>
              <a:rPr b="1" lang="he-IL" sz="1600" spc="-1" strike="noStrike">
                <a:solidFill>
                  <a:srgbClr val="ccccff"/>
                </a:solidFill>
                <a:latin typeface="Arial"/>
                <a:ea typeface="Arial"/>
              </a:rPr>
              <a:t>30</a:t>
            </a:r>
            <a:r>
              <a:rPr b="1" lang="he-IL" sz="1600" spc="-1" strike="noStrike">
                <a:solidFill>
                  <a:srgbClr val="ccccff"/>
                </a:solidFill>
                <a:latin typeface="Arial"/>
                <a:ea typeface="Arial"/>
              </a:rPr>
              <a:t> של מגדל אשכול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חוץ מנוף לחרמון בצפון וגוש-דן בדרום, התצפית הזאת היא המקום שבו כדאי לפתוח את הסיור בחיפה, כי כאן אפשר לעשות סדר בכיוונים ולהתחיל להבין "מי נגד מי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Uni_lookout_474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rot="2820000">
            <a:off x="8229240" y="5715000"/>
            <a:ext cx="380880" cy="609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da3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21596400">
            <a:off x="5105520" y="152280"/>
            <a:ext cx="3886200" cy="580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קודם כל נשים חץ כדי שלא נאבד את הצפו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04760"/>
            <a:ext cx="388620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avid"/>
              </a:rPr>
              <a:t>For a start, here is the Nor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avid"/>
              </a:rPr>
              <a:t>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Uni_lookout_474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2820000">
            <a:off x="8229240" y="5715000"/>
            <a:ext cx="380880" cy="609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da3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596400">
            <a:off x="5713200" y="150840"/>
            <a:ext cx="3276360" cy="580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ועכשיו נראה מה קורה כשאנחנו נוסעים לאורך חופי חיפ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04760"/>
            <a:ext cx="3886200" cy="580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avid"/>
              </a:rPr>
              <a:t>Now let’s see what happens when we travel along the coast in Haif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Uni_lookout_474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2743200"/>
            <a:ext cx="144792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144"/>
                </a:moveTo>
                <a:cubicBezTo>
                  <a:pt x="96" y="128"/>
                  <a:pt x="192" y="112"/>
                  <a:pt x="288" y="96"/>
                </a:cubicBezTo>
                <a:cubicBezTo>
                  <a:pt x="384" y="80"/>
                  <a:pt x="472" y="64"/>
                  <a:pt x="576" y="48"/>
                </a:cubicBezTo>
                <a:cubicBezTo>
                  <a:pt x="680" y="32"/>
                  <a:pt x="856" y="8"/>
                  <a:pt x="9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820000">
            <a:off x="8229240" y="5715000"/>
            <a:ext cx="380880" cy="609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da3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1596400">
            <a:off x="39240" y="928440"/>
            <a:ext cx="1447920" cy="64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 arrive from Tel Aviv to “Carmel Beac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1596400">
            <a:off x="63360" y="1599840"/>
            <a:ext cx="1447920" cy="1159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הנה מגיעים מתל אביב על כביש החוף ועוברים ב"חוף הכרמל</a:t>
            </a: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Uni_lookout_474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743200"/>
            <a:ext cx="144792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144"/>
                </a:moveTo>
                <a:cubicBezTo>
                  <a:pt x="96" y="128"/>
                  <a:pt x="192" y="112"/>
                  <a:pt x="288" y="96"/>
                </a:cubicBezTo>
                <a:cubicBezTo>
                  <a:pt x="384" y="80"/>
                  <a:pt x="472" y="64"/>
                  <a:pt x="576" y="48"/>
                </a:cubicBezTo>
                <a:cubicBezTo>
                  <a:pt x="680" y="32"/>
                  <a:pt x="856" y="8"/>
                  <a:pt x="9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2576520"/>
            <a:ext cx="2286000" cy="182520"/>
          </a:xfrm>
          <a:custGeom>
            <a:avLst/>
            <a:gdLst/>
            <a:ahLst/>
            <a:rect l="l" t="t" r="r" b="b"/>
            <a:pathLst>
              <a:path w="1451" h="115">
                <a:moveTo>
                  <a:pt x="0" y="115"/>
                </a:moveTo>
                <a:cubicBezTo>
                  <a:pt x="22" y="112"/>
                  <a:pt x="85" y="107"/>
                  <a:pt x="133" y="99"/>
                </a:cubicBezTo>
                <a:cubicBezTo>
                  <a:pt x="181" y="91"/>
                  <a:pt x="220" y="72"/>
                  <a:pt x="290" y="67"/>
                </a:cubicBezTo>
                <a:cubicBezTo>
                  <a:pt x="360" y="62"/>
                  <a:pt x="486" y="71"/>
                  <a:pt x="553" y="67"/>
                </a:cubicBezTo>
                <a:cubicBezTo>
                  <a:pt x="620" y="63"/>
                  <a:pt x="647" y="45"/>
                  <a:pt x="693" y="40"/>
                </a:cubicBezTo>
                <a:cubicBezTo>
                  <a:pt x="739" y="35"/>
                  <a:pt x="783" y="39"/>
                  <a:pt x="827" y="35"/>
                </a:cubicBezTo>
                <a:cubicBezTo>
                  <a:pt x="871" y="31"/>
                  <a:pt x="861" y="24"/>
                  <a:pt x="955" y="19"/>
                </a:cubicBezTo>
                <a:cubicBezTo>
                  <a:pt x="1049" y="14"/>
                  <a:pt x="1333" y="6"/>
                  <a:pt x="1392" y="3"/>
                </a:cubicBezTo>
                <a:cubicBezTo>
                  <a:pt x="1451" y="0"/>
                  <a:pt x="1329" y="3"/>
                  <a:pt x="1312" y="3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1596400">
            <a:off x="1523880" y="1868400"/>
            <a:ext cx="1751040" cy="733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ועכשיו נוסעים למרגלות אחוזה כרמליה וכבאבי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820000">
            <a:off x="8229240" y="5715000"/>
            <a:ext cx="380880" cy="609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da3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1596400">
            <a:off x="39240" y="928440"/>
            <a:ext cx="1447920" cy="64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 arrive from Tel Aviv to “Carmel Beac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1596400">
            <a:off x="1676520" y="1060200"/>
            <a:ext cx="144756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 along the foot of Ahuza, Carmelia and Kabab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1596400">
            <a:off x="63360" y="1599840"/>
            <a:ext cx="1447920" cy="1159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הנה מגיעים מתל אביב על כביש החוף ועוברים ב"חוף הכרמל</a:t>
            </a: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ahai_general_0589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44920" y="0"/>
            <a:ext cx="469908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וכי איך אפשר שלא להתאהב במראה כזה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0"/>
            <a:ext cx="525780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avid"/>
              </a:rPr>
              <a:t>How can someone not fall in love with such a sigh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Uni_lookout_474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2743200"/>
            <a:ext cx="144792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144"/>
                </a:moveTo>
                <a:cubicBezTo>
                  <a:pt x="96" y="128"/>
                  <a:pt x="192" y="112"/>
                  <a:pt x="288" y="96"/>
                </a:cubicBezTo>
                <a:cubicBezTo>
                  <a:pt x="384" y="80"/>
                  <a:pt x="472" y="64"/>
                  <a:pt x="576" y="48"/>
                </a:cubicBezTo>
                <a:cubicBezTo>
                  <a:pt x="680" y="32"/>
                  <a:pt x="856" y="8"/>
                  <a:pt x="9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2576520"/>
            <a:ext cx="2286000" cy="182520"/>
          </a:xfrm>
          <a:custGeom>
            <a:avLst/>
            <a:gdLst/>
            <a:ahLst/>
            <a:rect l="l" t="t" r="r" b="b"/>
            <a:pathLst>
              <a:path w="1451" h="115">
                <a:moveTo>
                  <a:pt x="0" y="115"/>
                </a:moveTo>
                <a:cubicBezTo>
                  <a:pt x="22" y="112"/>
                  <a:pt x="85" y="107"/>
                  <a:pt x="133" y="99"/>
                </a:cubicBezTo>
                <a:cubicBezTo>
                  <a:pt x="181" y="91"/>
                  <a:pt x="220" y="72"/>
                  <a:pt x="290" y="67"/>
                </a:cubicBezTo>
                <a:cubicBezTo>
                  <a:pt x="360" y="62"/>
                  <a:pt x="486" y="71"/>
                  <a:pt x="553" y="67"/>
                </a:cubicBezTo>
                <a:cubicBezTo>
                  <a:pt x="620" y="63"/>
                  <a:pt x="647" y="45"/>
                  <a:pt x="693" y="40"/>
                </a:cubicBezTo>
                <a:cubicBezTo>
                  <a:pt x="739" y="35"/>
                  <a:pt x="783" y="39"/>
                  <a:pt x="827" y="35"/>
                </a:cubicBezTo>
                <a:cubicBezTo>
                  <a:pt x="871" y="31"/>
                  <a:pt x="861" y="24"/>
                  <a:pt x="955" y="19"/>
                </a:cubicBezTo>
                <a:cubicBezTo>
                  <a:pt x="1049" y="14"/>
                  <a:pt x="1333" y="6"/>
                  <a:pt x="1392" y="3"/>
                </a:cubicBezTo>
                <a:cubicBezTo>
                  <a:pt x="1451" y="0"/>
                  <a:pt x="1329" y="3"/>
                  <a:pt x="1312" y="3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596400">
            <a:off x="1523880" y="1868400"/>
            <a:ext cx="1751040" cy="733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ועכשיו נוסעים למרגלות אחוזה כרמליה וכבאבי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2502000"/>
            <a:ext cx="1981080" cy="164880"/>
          </a:xfrm>
          <a:custGeom>
            <a:avLst/>
            <a:gdLst/>
            <a:ahLst/>
            <a:rect l="l" t="t" r="r" b="b"/>
            <a:pathLst>
              <a:path w="1152" h="64">
                <a:moveTo>
                  <a:pt x="0" y="56"/>
                </a:moveTo>
                <a:cubicBezTo>
                  <a:pt x="8" y="56"/>
                  <a:pt x="16" y="56"/>
                  <a:pt x="48" y="56"/>
                </a:cubicBezTo>
                <a:cubicBezTo>
                  <a:pt x="80" y="56"/>
                  <a:pt x="128" y="56"/>
                  <a:pt x="192" y="56"/>
                </a:cubicBezTo>
                <a:cubicBezTo>
                  <a:pt x="256" y="56"/>
                  <a:pt x="360" y="64"/>
                  <a:pt x="432" y="56"/>
                </a:cubicBezTo>
                <a:cubicBezTo>
                  <a:pt x="504" y="48"/>
                  <a:pt x="528" y="16"/>
                  <a:pt x="624" y="8"/>
                </a:cubicBezTo>
                <a:cubicBezTo>
                  <a:pt x="720" y="0"/>
                  <a:pt x="920" y="8"/>
                  <a:pt x="1008" y="8"/>
                </a:cubicBezTo>
                <a:cubicBezTo>
                  <a:pt x="1096" y="8"/>
                  <a:pt x="1124" y="8"/>
                  <a:pt x="1152" y="8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820000">
            <a:off x="8229240" y="5715000"/>
            <a:ext cx="380880" cy="609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da3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7800" y="1368360"/>
            <a:ext cx="2154240" cy="1372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ובאזור המכון הלאומי לאוקיאנוגרפיה  מתחילים להסתובב ומגיעים לשפיץ של הכרמל, מתחת ל"סטלה מאריס</a:t>
            </a: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1596400">
            <a:off x="39240" y="928440"/>
            <a:ext cx="1447920" cy="64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 arrive from Tel Aviv to “Carmel Beac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1596400">
            <a:off x="3087720" y="498600"/>
            <a:ext cx="243828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ssing the National Oceanographic Institute we reach the tip of the Carmel, under “Stella Mari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1596400">
            <a:off x="63360" y="1599840"/>
            <a:ext cx="1447920" cy="1159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הנה מגיעים מתל אביב על כביש החוף ועוברים ב"חוף הכרמל</a:t>
            </a: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1596400">
            <a:off x="1676520" y="1060200"/>
            <a:ext cx="144756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 along the foot of Ahuza, Carmelia and Kabab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Uni_lookout_474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2743200"/>
            <a:ext cx="144792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144"/>
                </a:moveTo>
                <a:cubicBezTo>
                  <a:pt x="96" y="128"/>
                  <a:pt x="192" y="112"/>
                  <a:pt x="288" y="96"/>
                </a:cubicBezTo>
                <a:cubicBezTo>
                  <a:pt x="384" y="80"/>
                  <a:pt x="472" y="64"/>
                  <a:pt x="576" y="48"/>
                </a:cubicBezTo>
                <a:cubicBezTo>
                  <a:pt x="680" y="32"/>
                  <a:pt x="856" y="8"/>
                  <a:pt x="9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2576520"/>
            <a:ext cx="2286000" cy="182520"/>
          </a:xfrm>
          <a:custGeom>
            <a:avLst/>
            <a:gdLst/>
            <a:ahLst/>
            <a:rect l="l" t="t" r="r" b="b"/>
            <a:pathLst>
              <a:path w="1451" h="115">
                <a:moveTo>
                  <a:pt x="0" y="115"/>
                </a:moveTo>
                <a:cubicBezTo>
                  <a:pt x="22" y="112"/>
                  <a:pt x="85" y="107"/>
                  <a:pt x="133" y="99"/>
                </a:cubicBezTo>
                <a:cubicBezTo>
                  <a:pt x="181" y="91"/>
                  <a:pt x="220" y="72"/>
                  <a:pt x="290" y="67"/>
                </a:cubicBezTo>
                <a:cubicBezTo>
                  <a:pt x="360" y="62"/>
                  <a:pt x="486" y="71"/>
                  <a:pt x="553" y="67"/>
                </a:cubicBezTo>
                <a:cubicBezTo>
                  <a:pt x="620" y="63"/>
                  <a:pt x="647" y="45"/>
                  <a:pt x="693" y="40"/>
                </a:cubicBezTo>
                <a:cubicBezTo>
                  <a:pt x="739" y="35"/>
                  <a:pt x="783" y="39"/>
                  <a:pt x="827" y="35"/>
                </a:cubicBezTo>
                <a:cubicBezTo>
                  <a:pt x="871" y="31"/>
                  <a:pt x="861" y="24"/>
                  <a:pt x="955" y="19"/>
                </a:cubicBezTo>
                <a:cubicBezTo>
                  <a:pt x="1049" y="14"/>
                  <a:pt x="1333" y="6"/>
                  <a:pt x="1392" y="3"/>
                </a:cubicBezTo>
                <a:cubicBezTo>
                  <a:pt x="1451" y="0"/>
                  <a:pt x="1329" y="3"/>
                  <a:pt x="1312" y="3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2514600"/>
            <a:ext cx="1905120" cy="380880"/>
          </a:xfrm>
          <a:custGeom>
            <a:avLst/>
            <a:gdLst/>
            <a:ahLst/>
            <a:rect l="l" t="t" r="r" b="b"/>
            <a:pathLst>
              <a:path w="1296" h="240">
                <a:moveTo>
                  <a:pt x="0" y="0"/>
                </a:moveTo>
                <a:cubicBezTo>
                  <a:pt x="172" y="16"/>
                  <a:pt x="344" y="32"/>
                  <a:pt x="432" y="48"/>
                </a:cubicBezTo>
                <a:cubicBezTo>
                  <a:pt x="520" y="64"/>
                  <a:pt x="432" y="72"/>
                  <a:pt x="528" y="96"/>
                </a:cubicBezTo>
                <a:cubicBezTo>
                  <a:pt x="624" y="120"/>
                  <a:pt x="880" y="168"/>
                  <a:pt x="1008" y="192"/>
                </a:cubicBezTo>
                <a:cubicBezTo>
                  <a:pt x="1136" y="216"/>
                  <a:pt x="1216" y="228"/>
                  <a:pt x="1296" y="240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1596400">
            <a:off x="1523880" y="1868400"/>
            <a:ext cx="1751040" cy="733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ועכשיו נוסעים למרגלות אחוזה כרמליה וכבאבי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1596400">
            <a:off x="5545080" y="1608120"/>
            <a:ext cx="1752480" cy="1159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והנה אנחנו ליד בת גלים ואחר כך מעלינו הגנים הבהאים ובהמשך שכונת הד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02000"/>
            <a:ext cx="1981080" cy="164880"/>
          </a:xfrm>
          <a:custGeom>
            <a:avLst/>
            <a:gdLst/>
            <a:ahLst/>
            <a:rect l="l" t="t" r="r" b="b"/>
            <a:pathLst>
              <a:path w="1152" h="64">
                <a:moveTo>
                  <a:pt x="0" y="56"/>
                </a:moveTo>
                <a:cubicBezTo>
                  <a:pt x="8" y="56"/>
                  <a:pt x="16" y="56"/>
                  <a:pt x="48" y="56"/>
                </a:cubicBezTo>
                <a:cubicBezTo>
                  <a:pt x="80" y="56"/>
                  <a:pt x="128" y="56"/>
                  <a:pt x="192" y="56"/>
                </a:cubicBezTo>
                <a:cubicBezTo>
                  <a:pt x="256" y="56"/>
                  <a:pt x="360" y="64"/>
                  <a:pt x="432" y="56"/>
                </a:cubicBezTo>
                <a:cubicBezTo>
                  <a:pt x="504" y="48"/>
                  <a:pt x="528" y="16"/>
                  <a:pt x="624" y="8"/>
                </a:cubicBezTo>
                <a:cubicBezTo>
                  <a:pt x="720" y="0"/>
                  <a:pt x="920" y="8"/>
                  <a:pt x="1008" y="8"/>
                </a:cubicBezTo>
                <a:cubicBezTo>
                  <a:pt x="1096" y="8"/>
                  <a:pt x="1124" y="8"/>
                  <a:pt x="1152" y="8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820000">
            <a:off x="8229240" y="5715000"/>
            <a:ext cx="380880" cy="609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da3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87800" y="1368360"/>
            <a:ext cx="2154240" cy="1372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ובאזור המכון הלאומי לאוקיאנוגרפיה  מתחילים להסתובב ומגיעים לשפיץ של הכרמל, מתחת ל"סטלה מאריס</a:t>
            </a: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1596400">
            <a:off x="39240" y="928440"/>
            <a:ext cx="1447920" cy="64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 arrive from Tel Aviv to “Carmel Beac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21596400">
            <a:off x="3087720" y="498600"/>
            <a:ext cx="243828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ssing the National Oceanographic Institute we reach the tip of the Carmel, under “Stella Mari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21596400">
            <a:off x="5543640" y="657360"/>
            <a:ext cx="190476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t Galim is to the left, above us the Bahai gardens and next – Hadar Hacarm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1596400">
            <a:off x="63360" y="1599840"/>
            <a:ext cx="1447920" cy="1159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הנה מגיעים מתל אביב על כביש החוף ועוברים ב"חוף הכרמל</a:t>
            </a: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1596400">
            <a:off x="1676520" y="1060200"/>
            <a:ext cx="144756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 along the foot of Ahuza, Carmelia and Kabab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Uni_lookout_474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2743200"/>
            <a:ext cx="144792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144"/>
                </a:moveTo>
                <a:cubicBezTo>
                  <a:pt x="96" y="128"/>
                  <a:pt x="192" y="112"/>
                  <a:pt x="288" y="96"/>
                </a:cubicBezTo>
                <a:cubicBezTo>
                  <a:pt x="384" y="80"/>
                  <a:pt x="472" y="64"/>
                  <a:pt x="576" y="48"/>
                </a:cubicBezTo>
                <a:cubicBezTo>
                  <a:pt x="680" y="32"/>
                  <a:pt x="856" y="8"/>
                  <a:pt x="9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2576520"/>
            <a:ext cx="2286000" cy="182520"/>
          </a:xfrm>
          <a:custGeom>
            <a:avLst/>
            <a:gdLst/>
            <a:ahLst/>
            <a:rect l="l" t="t" r="r" b="b"/>
            <a:pathLst>
              <a:path w="1451" h="115">
                <a:moveTo>
                  <a:pt x="0" y="115"/>
                </a:moveTo>
                <a:cubicBezTo>
                  <a:pt x="22" y="112"/>
                  <a:pt x="85" y="107"/>
                  <a:pt x="133" y="99"/>
                </a:cubicBezTo>
                <a:cubicBezTo>
                  <a:pt x="181" y="91"/>
                  <a:pt x="220" y="72"/>
                  <a:pt x="290" y="67"/>
                </a:cubicBezTo>
                <a:cubicBezTo>
                  <a:pt x="360" y="62"/>
                  <a:pt x="486" y="71"/>
                  <a:pt x="553" y="67"/>
                </a:cubicBezTo>
                <a:cubicBezTo>
                  <a:pt x="620" y="63"/>
                  <a:pt x="647" y="45"/>
                  <a:pt x="693" y="40"/>
                </a:cubicBezTo>
                <a:cubicBezTo>
                  <a:pt x="739" y="35"/>
                  <a:pt x="783" y="39"/>
                  <a:pt x="827" y="35"/>
                </a:cubicBezTo>
                <a:cubicBezTo>
                  <a:pt x="871" y="31"/>
                  <a:pt x="861" y="24"/>
                  <a:pt x="955" y="19"/>
                </a:cubicBezTo>
                <a:cubicBezTo>
                  <a:pt x="1049" y="14"/>
                  <a:pt x="1333" y="6"/>
                  <a:pt x="1392" y="3"/>
                </a:cubicBezTo>
                <a:cubicBezTo>
                  <a:pt x="1451" y="0"/>
                  <a:pt x="1329" y="3"/>
                  <a:pt x="1312" y="3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2514600"/>
            <a:ext cx="1905120" cy="380880"/>
          </a:xfrm>
          <a:custGeom>
            <a:avLst/>
            <a:gdLst/>
            <a:ahLst/>
            <a:rect l="l" t="t" r="r" b="b"/>
            <a:pathLst>
              <a:path w="1296" h="240">
                <a:moveTo>
                  <a:pt x="0" y="0"/>
                </a:moveTo>
                <a:cubicBezTo>
                  <a:pt x="172" y="16"/>
                  <a:pt x="344" y="32"/>
                  <a:pt x="432" y="48"/>
                </a:cubicBezTo>
                <a:cubicBezTo>
                  <a:pt x="520" y="64"/>
                  <a:pt x="432" y="72"/>
                  <a:pt x="528" y="96"/>
                </a:cubicBezTo>
                <a:cubicBezTo>
                  <a:pt x="624" y="120"/>
                  <a:pt x="880" y="168"/>
                  <a:pt x="1008" y="192"/>
                </a:cubicBezTo>
                <a:cubicBezTo>
                  <a:pt x="1136" y="216"/>
                  <a:pt x="1216" y="228"/>
                  <a:pt x="1296" y="240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91520" y="2895480"/>
            <a:ext cx="1600200" cy="228600"/>
          </a:xfrm>
          <a:custGeom>
            <a:avLst/>
            <a:gdLst/>
            <a:ahLst/>
            <a:rect l="l" t="t" r="r" b="b"/>
            <a:pathLst>
              <a:path w="1008" h="144">
                <a:moveTo>
                  <a:pt x="0" y="0"/>
                </a:moveTo>
                <a:cubicBezTo>
                  <a:pt x="180" y="36"/>
                  <a:pt x="360" y="72"/>
                  <a:pt x="528" y="96"/>
                </a:cubicBezTo>
                <a:cubicBezTo>
                  <a:pt x="696" y="120"/>
                  <a:pt x="852" y="132"/>
                  <a:pt x="1008" y="144"/>
                </a:cubicBezTo>
              </a:path>
            </a:pathLst>
          </a:custGeom>
          <a:noFill/>
          <a:ln w="3816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1596400">
            <a:off x="1523880" y="1868400"/>
            <a:ext cx="1751040" cy="733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ועכשיו נוסעים למרגלות אחוזה כרמליה וכבאבי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1596400">
            <a:off x="5545080" y="1608120"/>
            <a:ext cx="1752480" cy="1159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והנה אנחנו ליד בת גלים ואחר כך מעלינו הגנים הבהאים ובהמשך שכונת הד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21596400">
            <a:off x="7434360" y="2004480"/>
            <a:ext cx="1600200" cy="1159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וכעת בעיר התחתית, עוברים ליד הנמל בדרכנו לצומת הצ'ק פוס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87800" y="1368360"/>
            <a:ext cx="2154240" cy="1372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ובאזור המכון הלאומי לאוקיאנוגרפיה  מתחילים להסתובב ומגיעים לשפיץ של הכרמל, מתחת ל"סטלה מאריס</a:t>
            </a: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2502000"/>
            <a:ext cx="1981080" cy="164880"/>
          </a:xfrm>
          <a:custGeom>
            <a:avLst/>
            <a:gdLst/>
            <a:ahLst/>
            <a:rect l="l" t="t" r="r" b="b"/>
            <a:pathLst>
              <a:path w="1152" h="64">
                <a:moveTo>
                  <a:pt x="0" y="56"/>
                </a:moveTo>
                <a:cubicBezTo>
                  <a:pt x="8" y="56"/>
                  <a:pt x="16" y="56"/>
                  <a:pt x="48" y="56"/>
                </a:cubicBezTo>
                <a:cubicBezTo>
                  <a:pt x="80" y="56"/>
                  <a:pt x="128" y="56"/>
                  <a:pt x="192" y="56"/>
                </a:cubicBezTo>
                <a:cubicBezTo>
                  <a:pt x="256" y="56"/>
                  <a:pt x="360" y="64"/>
                  <a:pt x="432" y="56"/>
                </a:cubicBezTo>
                <a:cubicBezTo>
                  <a:pt x="504" y="48"/>
                  <a:pt x="528" y="16"/>
                  <a:pt x="624" y="8"/>
                </a:cubicBezTo>
                <a:cubicBezTo>
                  <a:pt x="720" y="0"/>
                  <a:pt x="920" y="8"/>
                  <a:pt x="1008" y="8"/>
                </a:cubicBezTo>
                <a:cubicBezTo>
                  <a:pt x="1096" y="8"/>
                  <a:pt x="1124" y="8"/>
                  <a:pt x="1152" y="8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820000">
            <a:off x="8229240" y="5715000"/>
            <a:ext cx="380880" cy="609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da3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1596400">
            <a:off x="39240" y="928440"/>
            <a:ext cx="1447920" cy="64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 arrive from Tel Aviv to “Carmel Beac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1596400">
            <a:off x="3087720" y="498600"/>
            <a:ext cx="243828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ssing the National Oceanographic Institute we reach the tip of the Carmel, under “Stella Mari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1596400">
            <a:off x="5543640" y="657360"/>
            <a:ext cx="190476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t Galim is to the left, above us the Bahaii gardens and next – Hadar Hacarm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21596400">
            <a:off x="7419960" y="1174320"/>
            <a:ext cx="167652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owntown we pass near the port on the way to “Check Post”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21596400">
            <a:off x="63360" y="1599840"/>
            <a:ext cx="1447920" cy="1159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הנה מגיעים מתל אביב על כביש החוף ועוברים ב"חוף הכרמל</a:t>
            </a: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21596400">
            <a:off x="1676520" y="1060200"/>
            <a:ext cx="144756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 along the foot of Ahuza, Carmelia and Kabab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Uni_lookout_474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2820000">
            <a:off x="8229240" y="5715000"/>
            <a:ext cx="380880" cy="609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da3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1596400">
            <a:off x="3713040" y="1523880"/>
            <a:ext cx="2057400" cy="307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וזה – קצה רכס הכרמ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1596400">
            <a:off x="6629040" y="1523880"/>
            <a:ext cx="2438280" cy="520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כאן החלק הדרומי מערבי של מפרץ חיפה ובו הנמ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4495680" y="1142640"/>
            <a:ext cx="685800" cy="2057400"/>
          </a:xfrm>
          <a:custGeom>
            <a:avLst/>
            <a:gdLst>
              <a:gd name="textAreaLeft" fmla="*/ 0 w 685800"/>
              <a:gd name="textAreaRight" fmla="*/ 247680 w 6858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7643880" y="1423800"/>
            <a:ext cx="685800" cy="2057400"/>
          </a:xfrm>
          <a:custGeom>
            <a:avLst/>
            <a:gdLst>
              <a:gd name="textAreaLeft" fmla="*/ 0 w 685800"/>
              <a:gd name="textAreaRight" fmla="*/ 247680 w 6858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21596400">
            <a:off x="69840" y="2298240"/>
            <a:ext cx="1536840" cy="520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ופה "חוף הכרמל</a:t>
            </a: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419040" y="2307960"/>
            <a:ext cx="304920" cy="99036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1596400">
            <a:off x="6172200" y="151920"/>
            <a:ext cx="281952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ולסיכום, וידוא הבנה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04760"/>
            <a:ext cx="388620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avid"/>
              </a:rPr>
              <a:t>So let’s make sure you have it r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avid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1596400">
            <a:off x="43920" y="1856880"/>
            <a:ext cx="1447920" cy="459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re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Carmel Beac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21596400">
            <a:off x="4146120" y="1118880"/>
            <a:ext cx="1447920" cy="459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the tip of the Carmel 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21596400">
            <a:off x="6945120" y="922320"/>
            <a:ext cx="2057400" cy="64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outh Western part of the Gulf of Haifa where Haifa port is lo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Uni_lookout_474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145360" y="12193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0120" y="2590920"/>
            <a:ext cx="990360" cy="30456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רמת אלו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2133720"/>
            <a:ext cx="838080" cy="30456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רמת בגי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76320"/>
            <a:ext cx="990360" cy="30456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כבאבי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79760" y="90324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כרמל מרכז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4572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בת גלי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72480" y="145584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יזרעאלי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86360" y="922320"/>
            <a:ext cx="762120" cy="380880"/>
          </a:xfrm>
          <a:prstGeom prst="roundRect">
            <a:avLst>
              <a:gd name="adj" fmla="val 16667"/>
            </a:avLst>
          </a:prstGeom>
          <a:solidFill>
            <a:srgbClr val="e7cfb7"/>
          </a:soli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הגנים </a:t>
            </a:r>
            <a:br>
              <a:rPr sz="1200"/>
            </a:br>
            <a:r>
              <a:rPr b="1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הבהא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336600"/>
            <a:ext cx="685800" cy="380880"/>
          </a:xfrm>
          <a:prstGeom prst="roundRect">
            <a:avLst>
              <a:gd name="adj" fmla="val 16667"/>
            </a:avLst>
          </a:prstGeom>
          <a:solidFill>
            <a:srgbClr val="e7cfb7"/>
          </a:soli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מגדלי </a:t>
            </a:r>
            <a:br>
              <a:rPr sz="1200"/>
            </a:br>
            <a:r>
              <a:rPr b="1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פנורמ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991720" y="76212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686800" y="1752480"/>
            <a:ext cx="0" cy="1752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29600" y="289548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67480" y="23623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19800" y="205740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רמת ח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76212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590920"/>
            <a:ext cx="6480" cy="1447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24382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9051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25720" y="130824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762120"/>
            <a:ext cx="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45720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כרמלי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380880"/>
            <a:ext cx="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205740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1371600"/>
            <a:ext cx="1219320" cy="30492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רמת אלמוג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81080"/>
            <a:ext cx="1066680" cy="30492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רמת גולד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16765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5257800"/>
            <a:ext cx="685800" cy="380880"/>
          </a:xfrm>
          <a:prstGeom prst="roundRect">
            <a:avLst>
              <a:gd name="adj" fmla="val 16667"/>
            </a:avLst>
          </a:prstGeom>
          <a:solidFill>
            <a:srgbClr val="e7cfb7"/>
          </a:soli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r>
              <a:rPr b="1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200"/>
            </a:br>
            <a:r>
              <a:rPr b="1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אונ' חיפ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121932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137160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כרמל מערב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1676520"/>
            <a:ext cx="3240" cy="108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820000">
            <a:off x="8229240" y="5715000"/>
            <a:ext cx="380880" cy="609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da3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129528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67560" y="71748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36040" y="93024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עיר תחתי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45240" y="16351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152388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הד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240" y="404640"/>
            <a:ext cx="982440" cy="228600"/>
          </a:xfrm>
          <a:prstGeom prst="roundRect">
            <a:avLst>
              <a:gd name="adj" fmla="val 16667"/>
            </a:avLst>
          </a:prstGeom>
          <a:solidFill>
            <a:srgbClr val="e7cfb7"/>
          </a:soli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חוף הכרמ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63324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2286000"/>
            <a:ext cx="609840" cy="30492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דני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56386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33920" y="228600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סביוני הכרמ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259092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21596400">
            <a:off x="4876920" y="0"/>
            <a:ext cx="4267080" cy="307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ועכשיו אנחנו כבר מוכנים לחיפה למתקדמים</a:t>
            </a: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7621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אחוז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0200" y="1547640"/>
            <a:ext cx="982800" cy="389160"/>
          </a:xfrm>
          <a:prstGeom prst="roundRect">
            <a:avLst>
              <a:gd name="adj" fmla="val 16667"/>
            </a:avLst>
          </a:prstGeom>
          <a:solidFill>
            <a:srgbClr val="e7cfb7"/>
          </a:soli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בניין </a:t>
            </a:r>
            <a:br>
              <a:rPr sz="1200"/>
            </a:br>
            <a:r>
              <a:rPr b="1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חברת החשמ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106668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1292400"/>
            <a:ext cx="609840" cy="304560"/>
          </a:xfrm>
          <a:prstGeom prst="roundRect">
            <a:avLst>
              <a:gd name="adj" fmla="val 16667"/>
            </a:avLst>
          </a:prstGeom>
          <a:solidFill>
            <a:srgbClr val="e7cfb7"/>
          </a:soli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בי"ח </a:t>
            </a:r>
            <a:br>
              <a:rPr sz="1200"/>
            </a:br>
            <a:r>
              <a:rPr b="1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כרמ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213372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רמת ספי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4382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213372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188928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רמות רמ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66040" y="461880"/>
            <a:ext cx="685800" cy="304920"/>
          </a:xfrm>
          <a:prstGeom prst="roundRect">
            <a:avLst>
              <a:gd name="adj" fmla="val 16667"/>
            </a:avLst>
          </a:prstGeom>
          <a:solidFill>
            <a:srgbClr val="e3d5ff"/>
          </a:solidFill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הנמ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sculpttures_0627" descr=""/>
          <p:cNvPicPr/>
          <p:nvPr/>
        </p:nvPicPr>
        <p:blipFill>
          <a:blip r:embed="rId1"/>
          <a:stretch/>
        </p:blipFill>
        <p:spPr>
          <a:xfrm>
            <a:off x="6240600" y="0"/>
            <a:ext cx="290340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sculptures_0628b" descr=""/>
          <p:cNvPicPr/>
          <p:nvPr/>
        </p:nvPicPr>
        <p:blipFill>
          <a:blip r:embed="rId2"/>
          <a:srcRect l="0" t="25646" r="0" b="36630"/>
          <a:stretch/>
        </p:blipFill>
        <p:spPr>
          <a:xfrm>
            <a:off x="3139920" y="1752480"/>
            <a:ext cx="2797200" cy="2590920"/>
          </a:xfrm>
          <a:prstGeom prst="rect">
            <a:avLst/>
          </a:prstGeom>
          <a:ln w="0">
            <a:noFill/>
          </a:ln>
        </p:spPr>
      </p:pic>
      <p:pic>
        <p:nvPicPr>
          <p:cNvPr id="235" name="scuplture_building_0631_vert" descr=""/>
          <p:cNvPicPr/>
          <p:nvPr/>
        </p:nvPicPr>
        <p:blipFill>
          <a:blip r:embed="rId3"/>
          <a:srcRect l="0" t="0" r="3958" b="0"/>
          <a:stretch/>
        </p:blipFill>
        <p:spPr>
          <a:xfrm>
            <a:off x="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108240" y="109440"/>
            <a:ext cx="2793960" cy="16988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חיפה לא עושה מעצמה עניין ולא ממציאה את עצמה מחדש. היא לא צריכה להתגנדר, כי יש לה מספיק חן משלה, ובדרכה הצנועה, גם אינה משוויצה בו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32000" y="4548240"/>
            <a:ext cx="2743200" cy="1966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Haifa does not make a fuss of itself and does not need to reinvent itself. With its unique beauty and its humble ways, luxury is out of the ques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sculpttures_0627" descr=""/>
          <p:cNvPicPr/>
          <p:nvPr/>
        </p:nvPicPr>
        <p:blipFill>
          <a:blip r:embed="rId1"/>
          <a:stretch/>
        </p:blipFill>
        <p:spPr>
          <a:xfrm>
            <a:off x="6240600" y="0"/>
            <a:ext cx="29034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sculptures_0628b" descr=""/>
          <p:cNvPicPr/>
          <p:nvPr/>
        </p:nvPicPr>
        <p:blipFill>
          <a:blip r:embed="rId2"/>
          <a:stretch/>
        </p:blipFill>
        <p:spPr>
          <a:xfrm>
            <a:off x="3139920" y="-7920"/>
            <a:ext cx="2797200" cy="6865920"/>
          </a:xfrm>
          <a:prstGeom prst="rect">
            <a:avLst/>
          </a:prstGeom>
          <a:ln w="0">
            <a:noFill/>
          </a:ln>
        </p:spPr>
      </p:pic>
      <p:pic>
        <p:nvPicPr>
          <p:cNvPr id="240" name="scuplture_building_0631_vert" descr=""/>
          <p:cNvPicPr/>
          <p:nvPr/>
        </p:nvPicPr>
        <p:blipFill>
          <a:blip r:embed="rId3"/>
          <a:srcRect l="0" t="0" r="3958" b="0"/>
          <a:stretch/>
        </p:blipFill>
        <p:spPr>
          <a:xfrm>
            <a:off x="0" y="0"/>
            <a:ext cx="28954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676520" y="4648320"/>
            <a:ext cx="6324480" cy="241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6440" y="1976400"/>
            <a:ext cx="89917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d5f"/>
                </a:solidFill>
                <a:latin typeface="Arial"/>
                <a:ea typeface="Arial"/>
              </a:rPr>
              <a:t>Opening and/or altering this presentation is prohibited. </a:t>
            </a:r>
            <a:br>
              <a:rPr sz="4400"/>
            </a:br>
            <a:r>
              <a:rPr b="1" lang="en-US" sz="4400" spc="-1" strike="noStrike">
                <a:solidFill>
                  <a:srgbClr val="fbdd5f"/>
                </a:solidFill>
                <a:latin typeface="Arial"/>
                <a:ea typeface="Arial"/>
              </a:rPr>
              <a:t>Any use of the material from the presentation is prohibited, unless written permission is obtained from the copyright holder – Guy Shachar</a:t>
            </a:r>
            <a:r>
              <a:rPr b="1" lang="en-US" sz="4400" spc="-1" strike="noStrike">
                <a:solidFill>
                  <a:srgbClr val="fbdd5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487440"/>
            <a:ext cx="76107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0000"/>
                </a:solidFill>
                <a:latin typeface="Arial"/>
                <a:ea typeface="Arial"/>
              </a:rPr>
              <a:t>Warn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76520" y="4648320"/>
            <a:ext cx="6324480" cy="241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560" y="1765440"/>
            <a:ext cx="899136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bdd5f"/>
                </a:solidFill>
                <a:latin typeface="Arial"/>
                <a:cs typeface="Arial"/>
              </a:rPr>
              <a:t>מצגת זו מוגנת </a:t>
            </a:r>
            <a:br>
              <a:rPr sz="6600"/>
            </a:br>
            <a:r>
              <a:rPr b="1" lang="he-IL" sz="6600" spc="-1" strike="noStrike">
                <a:solidFill>
                  <a:srgbClr val="fbdd5f"/>
                </a:solidFill>
                <a:latin typeface="Arial"/>
                <a:cs typeface="Arial"/>
              </a:rPr>
              <a:t>על פי חוק זכויות יוצרים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bdd5f"/>
                </a:solidFill>
                <a:latin typeface="Arial"/>
                <a:cs typeface="Arial"/>
              </a:rPr>
              <a:t>אין לפתוח את המצגת, אין לערוך כל שינוי במצגת, ואין לעשות כל שימוש בחומר מתוך המצגת (לרבות תמונות וטקסט) ללא אישור מפורש בכתב מבעל הזכויות – גיא שח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431640"/>
            <a:ext cx="76107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0" spc="-1" strike="noStrike">
                <a:solidFill>
                  <a:srgbClr val="ff0000"/>
                </a:solidFill>
                <a:latin typeface="Narkisim"/>
                <a:cs typeface="Narkisim"/>
              </a:rPr>
              <a:t>א</a:t>
            </a:r>
            <a:r>
              <a:rPr b="1" lang="he-IL" sz="16000" spc="-1" strike="noStrike">
                <a:solidFill>
                  <a:srgbClr val="ff0000"/>
                </a:solidFill>
                <a:latin typeface="Narkisim"/>
                <a:cs typeface="Narkisim"/>
              </a:rPr>
              <a:t>זהרה !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downtown_look_up_0417_vert" descr=""/>
          <p:cNvPicPr/>
          <p:nvPr/>
        </p:nvPicPr>
        <p:blipFill>
          <a:blip r:embed="rId1"/>
          <a:stretch/>
        </p:blipFill>
        <p:spPr>
          <a:xfrm>
            <a:off x="6086520" y="0"/>
            <a:ext cx="305748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downtown_south_4510" descr=""/>
          <p:cNvPicPr/>
          <p:nvPr/>
        </p:nvPicPr>
        <p:blipFill>
          <a:blip r:embed="rId2"/>
          <a:stretch/>
        </p:blipFill>
        <p:spPr>
          <a:xfrm>
            <a:off x="0" y="0"/>
            <a:ext cx="259092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240000" y="128520"/>
            <a:ext cx="2413080" cy="20408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על חיפה אני אוהב להסתכל מלמעלה למטה </a:t>
            </a:r>
            <a:br>
              <a:rPr sz="1600"/>
            </a:b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ומלמטה למעלה* </a:t>
            </a:r>
            <a:br>
              <a:rPr sz="1600"/>
            </a:br>
            <a:br>
              <a:rPr sz="1600"/>
            </a:b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מכל נקודה רואים כמה רבדים, וכל זווית מבט חושפת משהו מעניין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19520" y="6407280"/>
            <a:ext cx="1575000" cy="459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ccccff"/>
                </a:solidFill>
                <a:latin typeface="Arial"/>
                <a:ea typeface="Arial"/>
              </a:rPr>
              <a:t>* בעצם אולי זה סתם הרגל גברי מגונ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70120" y="6424560"/>
            <a:ext cx="1905120" cy="459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David"/>
              </a:rPr>
              <a:t>*Well ain’t that just a masculine hab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11560" y="2666880"/>
            <a:ext cx="2438280" cy="2051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I like exploring Haifa top down and bottom up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Every viewing spot reveals something intriguing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4648320"/>
            <a:ext cx="6324480" cy="241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6440" y="1976400"/>
            <a:ext cx="89917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d5f"/>
                </a:solidFill>
                <a:latin typeface="Arial"/>
                <a:ea typeface="Arial"/>
              </a:rPr>
              <a:t>Opening and/or altering this presentation is prohibited. </a:t>
            </a:r>
            <a:br>
              <a:rPr sz="4400"/>
            </a:br>
            <a:r>
              <a:rPr b="1" lang="en-US" sz="4400" spc="-1" strike="noStrike">
                <a:solidFill>
                  <a:srgbClr val="fbdd5f"/>
                </a:solidFill>
                <a:latin typeface="Arial"/>
                <a:ea typeface="Arial"/>
              </a:rPr>
              <a:t>Any use of the material from the presentation is prohibited, unless written permission is obtained from the copyright holder – Guy Shachar</a:t>
            </a:r>
            <a:r>
              <a:rPr b="1" lang="en-US" sz="4400" spc="-1" strike="noStrike">
                <a:solidFill>
                  <a:srgbClr val="fbdd5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87440"/>
            <a:ext cx="76107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0000"/>
                </a:solidFill>
                <a:latin typeface="Arial"/>
                <a:ea typeface="Arial"/>
              </a:rPr>
              <a:t>Warn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downtown_look_up_0417_vert" descr=""/>
          <p:cNvPicPr/>
          <p:nvPr/>
        </p:nvPicPr>
        <p:blipFill>
          <a:blip r:embed="rId1"/>
          <a:stretch/>
        </p:blipFill>
        <p:spPr>
          <a:xfrm>
            <a:off x="6086520" y="0"/>
            <a:ext cx="305748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meiasdim_vert_9043" descr=""/>
          <p:cNvPicPr/>
          <p:nvPr/>
        </p:nvPicPr>
        <p:blipFill>
          <a:blip r:embed="rId2"/>
          <a:stretch/>
        </p:blipFill>
        <p:spPr>
          <a:xfrm>
            <a:off x="2898720" y="0"/>
            <a:ext cx="304488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downtown_south_4510" descr=""/>
          <p:cNvPicPr/>
          <p:nvPr/>
        </p:nvPicPr>
        <p:blipFill>
          <a:blip r:embed="rId3"/>
          <a:stretch/>
        </p:blipFill>
        <p:spPr>
          <a:xfrm>
            <a:off x="0" y="0"/>
            <a:ext cx="25909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stairs_0594" descr=""/>
          <p:cNvPicPr/>
          <p:nvPr/>
        </p:nvPicPr>
        <p:blipFill>
          <a:blip r:embed="rId1"/>
          <a:srcRect l="0" t="56669" r="0" b="0"/>
          <a:stretch/>
        </p:blipFill>
        <p:spPr>
          <a:xfrm>
            <a:off x="3124080" y="3886200"/>
            <a:ext cx="2784600" cy="2971800"/>
          </a:xfrm>
          <a:prstGeom prst="rect">
            <a:avLst/>
          </a:prstGeom>
          <a:ln w="0">
            <a:noFill/>
          </a:ln>
        </p:spPr>
      </p:pic>
      <p:pic>
        <p:nvPicPr>
          <p:cNvPr id="257" name="stairs_4486" descr=""/>
          <p:cNvPicPr/>
          <p:nvPr/>
        </p:nvPicPr>
        <p:blipFill>
          <a:blip r:embed="rId2"/>
          <a:srcRect l="0" t="56669" r="0" b="0"/>
          <a:stretch/>
        </p:blipFill>
        <p:spPr>
          <a:xfrm>
            <a:off x="6097680" y="3886200"/>
            <a:ext cx="3046320" cy="2971800"/>
          </a:xfrm>
          <a:prstGeom prst="rect">
            <a:avLst/>
          </a:prstGeom>
          <a:ln w="0">
            <a:noFill/>
          </a:ln>
        </p:spPr>
      </p:pic>
      <p:pic>
        <p:nvPicPr>
          <p:cNvPr id="258" name="stairs_vert_2939" descr=""/>
          <p:cNvPicPr/>
          <p:nvPr/>
        </p:nvPicPr>
        <p:blipFill>
          <a:blip r:embed="rId3"/>
          <a:srcRect l="4574" t="56669" r="12031" b="0"/>
          <a:stretch/>
        </p:blipFill>
        <p:spPr>
          <a:xfrm>
            <a:off x="0" y="3886200"/>
            <a:ext cx="2895480" cy="2971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324480" y="914400"/>
            <a:ext cx="2413080" cy="1554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עשרות גרמי מדרגות מחברים את שכונות הכרמל עם הים, והשוטטות בהם היא דרך נפלאה לגלות את צפונות העיר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838080"/>
            <a:ext cx="2438280" cy="1554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Numerous staircases connect the Carmel neighbourhoods with the sea, traversing Haifa’s hidden treas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stairs_0594" descr=""/>
          <p:cNvPicPr/>
          <p:nvPr/>
        </p:nvPicPr>
        <p:blipFill>
          <a:blip r:embed="rId1"/>
          <a:stretch/>
        </p:blipFill>
        <p:spPr>
          <a:xfrm>
            <a:off x="3124080" y="0"/>
            <a:ext cx="27846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stairs_4486" descr=""/>
          <p:cNvPicPr/>
          <p:nvPr/>
        </p:nvPicPr>
        <p:blipFill>
          <a:blip r:embed="rId2"/>
          <a:stretch/>
        </p:blipFill>
        <p:spPr>
          <a:xfrm>
            <a:off x="6097680" y="0"/>
            <a:ext cx="304632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stairs_vert_2939" descr=""/>
          <p:cNvPicPr/>
          <p:nvPr/>
        </p:nvPicPr>
        <p:blipFill>
          <a:blip r:embed="rId3"/>
          <a:srcRect l="4574" t="0" r="12031" b="0"/>
          <a:stretch/>
        </p:blipFill>
        <p:spPr>
          <a:xfrm>
            <a:off x="0" y="0"/>
            <a:ext cx="2895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362320" y="609480"/>
            <a:ext cx="2412720" cy="580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והעיר מצטיינת גם במבנים, חדשים כישני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0" y="1600200"/>
            <a:ext cx="243828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Haifa excels in its architecture as well, old and 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tower_4550mosque" descr=""/>
          <p:cNvPicPr/>
          <p:nvPr/>
        </p:nvPicPr>
        <p:blipFill>
          <a:blip r:embed="rId1"/>
          <a:stretch/>
        </p:blipFill>
        <p:spPr>
          <a:xfrm>
            <a:off x="0" y="0"/>
            <a:ext cx="21366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clock_tower_4544" descr=""/>
          <p:cNvPicPr/>
          <p:nvPr/>
        </p:nvPicPr>
        <p:blipFill>
          <a:blip r:embed="rId1"/>
          <a:srcRect l="0" t="2220" r="0" b="0"/>
          <a:stretch/>
        </p:blipFill>
        <p:spPr>
          <a:xfrm>
            <a:off x="5678640" y="0"/>
            <a:ext cx="346536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tower_4550mosque" descr=""/>
          <p:cNvPicPr/>
          <p:nvPr/>
        </p:nvPicPr>
        <p:blipFill>
          <a:blip r:embed="rId2"/>
          <a:stretch/>
        </p:blipFill>
        <p:spPr>
          <a:xfrm>
            <a:off x="0" y="0"/>
            <a:ext cx="21366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362320" y="609480"/>
            <a:ext cx="2412720" cy="580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והעיר מצטיינת גם במבנים, חדשים כישני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1600200"/>
            <a:ext cx="243828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Haifa excels in its architecture as well, old and 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ower_4550a" descr=""/>
          <p:cNvPicPr/>
          <p:nvPr/>
        </p:nvPicPr>
        <p:blipFill>
          <a:blip r:embed="rId1"/>
          <a:stretch/>
        </p:blipFill>
        <p:spPr>
          <a:xfrm>
            <a:off x="2122560" y="0"/>
            <a:ext cx="300672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tower_4550mosque" descr=""/>
          <p:cNvPicPr/>
          <p:nvPr/>
        </p:nvPicPr>
        <p:blipFill>
          <a:blip r:embed="rId2"/>
          <a:stretch/>
        </p:blipFill>
        <p:spPr>
          <a:xfrm>
            <a:off x="-9360" y="0"/>
            <a:ext cx="213660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clock_tower_4544" descr=""/>
          <p:cNvPicPr/>
          <p:nvPr/>
        </p:nvPicPr>
        <p:blipFill>
          <a:blip r:embed="rId3"/>
          <a:srcRect l="0" t="2220" r="0" b="0"/>
          <a:stretch/>
        </p:blipFill>
        <p:spPr>
          <a:xfrm>
            <a:off x="5678640" y="0"/>
            <a:ext cx="346536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ower_curch_4562" descr=""/>
          <p:cNvPicPr/>
          <p:nvPr/>
        </p:nvPicPr>
        <p:blipFill>
          <a:blip r:embed="rId1"/>
          <a:srcRect l="0" t="2146" r="0" b="3533"/>
          <a:stretch/>
        </p:blipFill>
        <p:spPr>
          <a:xfrm>
            <a:off x="5923080" y="0"/>
            <a:ext cx="322092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kababir_vert_6224" descr=""/>
          <p:cNvPicPr/>
          <p:nvPr/>
        </p:nvPicPr>
        <p:blipFill>
          <a:blip r:embed="rId2"/>
          <a:srcRect l="0" t="0" r="56399" b="0"/>
          <a:stretch/>
        </p:blipFill>
        <p:spPr>
          <a:xfrm>
            <a:off x="457200" y="0"/>
            <a:ext cx="190512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kababir_vert_6224" descr=""/>
          <p:cNvPicPr/>
          <p:nvPr/>
        </p:nvPicPr>
        <p:blipFill>
          <a:blip r:embed="rId1"/>
          <a:stretch/>
        </p:blipFill>
        <p:spPr>
          <a:xfrm>
            <a:off x="457200" y="0"/>
            <a:ext cx="436896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tower_curch_4562" descr=""/>
          <p:cNvPicPr/>
          <p:nvPr/>
        </p:nvPicPr>
        <p:blipFill>
          <a:blip r:embed="rId2"/>
          <a:srcRect l="0" t="2146" r="0" b="3533"/>
          <a:stretch/>
        </p:blipFill>
        <p:spPr>
          <a:xfrm>
            <a:off x="5923080" y="0"/>
            <a:ext cx="32209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rain_memorial_5434_vert" descr=""/>
          <p:cNvPicPr/>
          <p:nvPr/>
        </p:nvPicPr>
        <p:blipFill>
          <a:blip r:embed="rId1"/>
          <a:stretch/>
        </p:blipFill>
        <p:spPr>
          <a:xfrm>
            <a:off x="0" y="1066680"/>
            <a:ext cx="2629080" cy="5639040"/>
          </a:xfrm>
          <a:prstGeom prst="rect">
            <a:avLst/>
          </a:prstGeom>
          <a:ln w="0">
            <a:noFill/>
          </a:ln>
        </p:spPr>
      </p:pic>
      <p:pic>
        <p:nvPicPr>
          <p:cNvPr id="279" name="partizan_9095" descr=""/>
          <p:cNvPicPr/>
          <p:nvPr/>
        </p:nvPicPr>
        <p:blipFill>
          <a:blip r:embed="rId2"/>
          <a:srcRect l="0" t="0" r="2463" b="0"/>
          <a:stretch/>
        </p:blipFill>
        <p:spPr>
          <a:xfrm>
            <a:off x="6121440" y="1066680"/>
            <a:ext cx="3025800" cy="56390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800600" y="0"/>
            <a:ext cx="4343400" cy="1067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אפילו האנדרטאות בחיפה מיוחדות. הנה אנדרטת הלוחמים הפרטיזנים, האנדרטה לחללי הצוללת "דקר" ואנדרטת הרכבת החיג'אזי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600" y="0"/>
            <a:ext cx="509292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Even memorials in Haifa are unique: </a:t>
            </a:r>
            <a:br>
              <a:rPr sz="1600"/>
            </a:b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Builders of the Hijaz railway, “Dakar” submarine sailors and the Jewish Partisan warrio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dakar_0208" descr=""/>
          <p:cNvPicPr/>
          <p:nvPr/>
        </p:nvPicPr>
        <p:blipFill>
          <a:blip r:embed="rId3"/>
          <a:srcRect l="7465" t="0" r="303" b="0"/>
          <a:stretch/>
        </p:blipFill>
        <p:spPr>
          <a:xfrm>
            <a:off x="2684520" y="1066680"/>
            <a:ext cx="3352680" cy="5639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meiasdim_view9050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77940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944960" y="39600"/>
            <a:ext cx="419112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חיפה טובלת בירוק בכמות שלא רואים כמוה לא רק בארץ, אלא אפילו בערים "נחשבות" בעול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240" y="-23760"/>
            <a:ext cx="449568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Haifa is soaked in dazzling green, like I haven’t seen anywhere in Israel nor even in some famous cities abro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520" y="4648320"/>
            <a:ext cx="6324480" cy="241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560" y="1765440"/>
            <a:ext cx="899136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bdd5f"/>
                </a:solidFill>
                <a:latin typeface="Arial"/>
                <a:cs typeface="Arial"/>
              </a:rPr>
              <a:t>מצגת זו מוגנת </a:t>
            </a:r>
            <a:br>
              <a:rPr sz="6600"/>
            </a:br>
            <a:r>
              <a:rPr b="1" lang="he-IL" sz="6600" spc="-1" strike="noStrike">
                <a:solidFill>
                  <a:srgbClr val="fbdd5f"/>
                </a:solidFill>
                <a:latin typeface="Arial"/>
                <a:cs typeface="Arial"/>
              </a:rPr>
              <a:t>על פי חוק זכויות יוצרים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bdd5f"/>
                </a:solidFill>
                <a:latin typeface="Arial"/>
                <a:cs typeface="Arial"/>
              </a:rPr>
              <a:t>אין לפתוח את המצגת, אין לערוך כל שינוי במצגת, ואין לעשות כל שימוש בחומר מתוך המצגת (לרבות תמונות וטקסט) ללא אישור מפורש בכתב מבעל הזכויות – גיא שח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31640"/>
            <a:ext cx="76107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0" spc="-1" strike="noStrike">
                <a:solidFill>
                  <a:srgbClr val="ff0000"/>
                </a:solidFill>
                <a:latin typeface="Narkisim"/>
                <a:cs typeface="Narkisim"/>
              </a:rPr>
              <a:t>א</a:t>
            </a:r>
            <a:r>
              <a:rPr b="1" lang="he-IL" sz="16000" spc="-1" strike="noStrike">
                <a:solidFill>
                  <a:srgbClr val="ff0000"/>
                </a:solidFill>
                <a:latin typeface="Narkisim"/>
                <a:cs typeface="Narkisim"/>
              </a:rPr>
              <a:t>זהרה !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vert_garden_tishbi_9168" descr=""/>
          <p:cNvPicPr/>
          <p:nvPr/>
        </p:nvPicPr>
        <p:blipFill>
          <a:blip r:embed="rId1"/>
          <a:stretch/>
        </p:blipFill>
        <p:spPr>
          <a:xfrm>
            <a:off x="3240" y="0"/>
            <a:ext cx="277488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vert_yard_9133" descr=""/>
          <p:cNvPicPr/>
          <p:nvPr/>
        </p:nvPicPr>
        <p:blipFill>
          <a:blip r:embed="rId2"/>
          <a:stretch/>
        </p:blipFill>
        <p:spPr>
          <a:xfrm>
            <a:off x="6100920" y="0"/>
            <a:ext cx="304632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363840" y="566640"/>
            <a:ext cx="2336760" cy="1681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והצומח הטבעי משרה אווירת גינון על בעלי הבתים והבנייני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לפעמים נדמה שמשוטטים במושב או קיבוץ ולא בעיר גדולה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97240" y="3124080"/>
            <a:ext cx="2438280" cy="2654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House and building owners are inspired by the urban nature and demonstrate superb gardening ski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Sometimes I feel that I am strolling in a  Moshav or a Kibbutz rather than in a big city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vert_pine_copper_9162" descr=""/>
          <p:cNvPicPr/>
          <p:nvPr/>
        </p:nvPicPr>
        <p:blipFill>
          <a:blip r:embed="rId1"/>
          <a:stretch/>
        </p:blipFill>
        <p:spPr>
          <a:xfrm>
            <a:off x="2967120" y="0"/>
            <a:ext cx="299556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vert_garden_tishbi_9168" descr=""/>
          <p:cNvPicPr/>
          <p:nvPr/>
        </p:nvPicPr>
        <p:blipFill>
          <a:blip r:embed="rId2"/>
          <a:stretch/>
        </p:blipFill>
        <p:spPr>
          <a:xfrm>
            <a:off x="0" y="0"/>
            <a:ext cx="277488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vert_yard_9133" descr=""/>
          <p:cNvPicPr/>
          <p:nvPr/>
        </p:nvPicPr>
        <p:blipFill>
          <a:blip r:embed="rId3"/>
          <a:stretch/>
        </p:blipFill>
        <p:spPr>
          <a:xfrm>
            <a:off x="6097680" y="0"/>
            <a:ext cx="30463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nahal_lotem_919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nahal_lotem_9193" descr=""/>
          <p:cNvPicPr/>
          <p:nvPr/>
        </p:nvPicPr>
        <p:blipFill>
          <a:blip r:embed="rId1"/>
          <a:srcRect l="0" t="0" r="0" b="1132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410080" y="6032520"/>
            <a:ext cx="3733920" cy="1067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היופי הטבעי מתבטא גם בנחלים שבין שלוחות הכרמל. רגע אחד בעיר, ורגע אחריו הולכים בחורש טבעי בדרך אל הי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032520"/>
            <a:ext cx="571500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Natural beauty at its best is formed by the creeks dividing the ridges. One minute you’re in town and a minute later, walking in the forest towards the se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sunset_7097" descr=""/>
          <p:cNvPicPr/>
          <p:nvPr/>
        </p:nvPicPr>
        <p:blipFill>
          <a:blip r:embed="rId1"/>
          <a:srcRect l="11076" t="0" r="6920" b="0"/>
          <a:stretch/>
        </p:blipFill>
        <p:spPr>
          <a:xfrm>
            <a:off x="322884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sunset_7117_vert" descr=""/>
          <p:cNvPicPr/>
          <p:nvPr/>
        </p:nvPicPr>
        <p:blipFill>
          <a:blip r:embed="rId2"/>
          <a:stretch/>
        </p:blipFill>
        <p:spPr>
          <a:xfrm>
            <a:off x="0" y="0"/>
            <a:ext cx="311616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sunset_vert_1344" descr=""/>
          <p:cNvPicPr/>
          <p:nvPr/>
        </p:nvPicPr>
        <p:blipFill>
          <a:blip r:embed="rId3"/>
          <a:stretch/>
        </p:blipFill>
        <p:spPr>
          <a:xfrm>
            <a:off x="6172200" y="0"/>
            <a:ext cx="29862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sunset_7097" descr=""/>
          <p:cNvPicPr/>
          <p:nvPr/>
        </p:nvPicPr>
        <p:blipFill>
          <a:blip r:embed="rId1"/>
          <a:srcRect l="11076" t="0" r="6920" b="0"/>
          <a:stretch/>
        </p:blipFill>
        <p:spPr>
          <a:xfrm>
            <a:off x="322884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sunset_7117_vert" descr=""/>
          <p:cNvPicPr/>
          <p:nvPr/>
        </p:nvPicPr>
        <p:blipFill>
          <a:blip r:embed="rId2"/>
          <a:stretch/>
        </p:blipFill>
        <p:spPr>
          <a:xfrm>
            <a:off x="0" y="0"/>
            <a:ext cx="311616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sunset_vert_1344" descr=""/>
          <p:cNvPicPr/>
          <p:nvPr/>
        </p:nvPicPr>
        <p:blipFill>
          <a:blip r:embed="rId3"/>
          <a:stretch/>
        </p:blipFill>
        <p:spPr>
          <a:xfrm>
            <a:off x="6172200" y="0"/>
            <a:ext cx="29862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696000" y="152280"/>
            <a:ext cx="203220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ולסיום המבוא - מה יש לומר על חופי חיפה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03960" y="803160"/>
            <a:ext cx="274320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And the shores of Haif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9200" y="25560"/>
            <a:ext cx="2971800" cy="580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e3d5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Arial"/>
              </a:rPr>
              <a:t>...שלא לדבר על הבנות של חיפה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7960" y="341280"/>
            <a:ext cx="2438280" cy="580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avid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avid"/>
              </a:rPr>
              <a:t>not to mention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avid"/>
              </a:rPr>
              <a:t>the girls of Haif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676520" y="4648320"/>
            <a:ext cx="6324480" cy="241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6440" y="1976400"/>
            <a:ext cx="89917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d5f"/>
                </a:solidFill>
                <a:latin typeface="Arial"/>
                <a:ea typeface="Arial"/>
              </a:rPr>
              <a:t>Opening and/or altering this presentation is prohibited. </a:t>
            </a:r>
            <a:br>
              <a:rPr sz="4400"/>
            </a:br>
            <a:r>
              <a:rPr b="1" lang="en-US" sz="4400" spc="-1" strike="noStrike">
                <a:solidFill>
                  <a:srgbClr val="fbdd5f"/>
                </a:solidFill>
                <a:latin typeface="Arial"/>
                <a:ea typeface="Arial"/>
              </a:rPr>
              <a:t>Any use of the material from the presentation is prohibited, unless written permission is obtained from the copyright holder – Guy Shachar</a:t>
            </a:r>
            <a:r>
              <a:rPr b="1" lang="en-US" sz="4400" spc="-1" strike="noStrike">
                <a:solidFill>
                  <a:srgbClr val="fbdd5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487440"/>
            <a:ext cx="76107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0000"/>
                </a:solidFill>
                <a:latin typeface="Arial"/>
                <a:ea typeface="Arial"/>
              </a:rPr>
              <a:t>Warn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676520" y="4648320"/>
            <a:ext cx="6324480" cy="241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560" y="1765440"/>
            <a:ext cx="899136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bdd5f"/>
                </a:solidFill>
                <a:latin typeface="Arial"/>
                <a:cs typeface="Arial"/>
              </a:rPr>
              <a:t>מצגת זו מוגנת </a:t>
            </a:r>
            <a:br>
              <a:rPr sz="6600"/>
            </a:br>
            <a:r>
              <a:rPr b="1" lang="he-IL" sz="6600" spc="-1" strike="noStrike">
                <a:solidFill>
                  <a:srgbClr val="fbdd5f"/>
                </a:solidFill>
                <a:latin typeface="Arial"/>
                <a:cs typeface="Arial"/>
              </a:rPr>
              <a:t>על פי חוק זכויות יוצרים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bdd5f"/>
                </a:solidFill>
                <a:latin typeface="Arial"/>
                <a:cs typeface="Arial"/>
              </a:rPr>
              <a:t>אין לפתוח את המצגת, אין לערוך כל שינוי במצגת, ואין לעשות כל שימוש בחומר מתוך המצגת (לרבות תמונות וטקסט) ללא אישור מפורש בכתב מבעל הזכויות – גיא שח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431640"/>
            <a:ext cx="76107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0" spc="-1" strike="noStrike">
                <a:solidFill>
                  <a:srgbClr val="ff0000"/>
                </a:solidFill>
                <a:latin typeface="Narkisim"/>
                <a:cs typeface="Narkisim"/>
              </a:rPr>
              <a:t>א</a:t>
            </a:r>
            <a:r>
              <a:rPr b="1" lang="he-IL" sz="16000" spc="-1" strike="noStrike">
                <a:solidFill>
                  <a:srgbClr val="ff0000"/>
                </a:solidFill>
                <a:latin typeface="Narkisim"/>
                <a:cs typeface="Narkisim"/>
              </a:rPr>
              <a:t>זהרה !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orvim_s" descr=""/>
          <p:cNvPicPr/>
          <p:nvPr/>
        </p:nvPicPr>
        <p:blipFill>
          <a:blip r:embed="rId1"/>
          <a:stretch/>
        </p:blipFill>
        <p:spPr>
          <a:xfrm>
            <a:off x="3200400" y="1143000"/>
            <a:ext cx="1270080" cy="990720"/>
          </a:xfrm>
          <a:prstGeom prst="rect">
            <a:avLst/>
          </a:prstGeom>
          <a:ln w="0">
            <a:noFill/>
          </a:ln>
        </p:spPr>
      </p:pic>
      <p:pic>
        <p:nvPicPr>
          <p:cNvPr id="316" name="snow_s" descr=""/>
          <p:cNvPicPr/>
          <p:nvPr/>
        </p:nvPicPr>
        <p:blipFill>
          <a:blip r:embed="rId2"/>
          <a:stretch/>
        </p:blipFill>
        <p:spPr>
          <a:xfrm>
            <a:off x="3200400" y="252360"/>
            <a:ext cx="1270080" cy="863640"/>
          </a:xfrm>
          <a:prstGeom prst="rect">
            <a:avLst/>
          </a:prstGeom>
          <a:ln w="0">
            <a:noFill/>
          </a:ln>
        </p:spPr>
      </p:pic>
      <p:pic>
        <p:nvPicPr>
          <p:cNvPr id="317" name="meiron1" descr=""/>
          <p:cNvPicPr/>
          <p:nvPr/>
        </p:nvPicPr>
        <p:blipFill>
          <a:blip r:embed="rId3"/>
          <a:stretch/>
        </p:blipFill>
        <p:spPr>
          <a:xfrm>
            <a:off x="5791320" y="1135080"/>
            <a:ext cx="1269720" cy="1006560"/>
          </a:xfrm>
          <a:prstGeom prst="rect">
            <a:avLst/>
          </a:prstGeom>
          <a:ln w="0">
            <a:noFill/>
          </a:ln>
        </p:spPr>
      </p:pic>
      <p:pic>
        <p:nvPicPr>
          <p:cNvPr id="318" name="guy_s" descr=""/>
          <p:cNvPicPr/>
          <p:nvPr/>
        </p:nvPicPr>
        <p:blipFill>
          <a:blip r:embed="rId4"/>
          <a:stretch/>
        </p:blipFill>
        <p:spPr>
          <a:xfrm>
            <a:off x="5791320" y="252360"/>
            <a:ext cx="1269720" cy="836640"/>
          </a:xfrm>
          <a:prstGeom prst="rect">
            <a:avLst/>
          </a:prstGeom>
          <a:ln w="0">
            <a:noFill/>
          </a:ln>
        </p:spPr>
      </p:pic>
      <p:pic>
        <p:nvPicPr>
          <p:cNvPr id="319" name="dish_s" descr=""/>
          <p:cNvPicPr/>
          <p:nvPr/>
        </p:nvPicPr>
        <p:blipFill>
          <a:blip r:embed="rId5"/>
          <a:stretch/>
        </p:blipFill>
        <p:spPr>
          <a:xfrm>
            <a:off x="4495680" y="1211400"/>
            <a:ext cx="1270080" cy="930240"/>
          </a:xfrm>
          <a:prstGeom prst="rect">
            <a:avLst/>
          </a:prstGeom>
          <a:ln w="0">
            <a:noFill/>
          </a:ln>
        </p:spPr>
      </p:pic>
      <p:pic>
        <p:nvPicPr>
          <p:cNvPr id="320" name="indnep_s" descr=""/>
          <p:cNvPicPr/>
          <p:nvPr/>
        </p:nvPicPr>
        <p:blipFill>
          <a:blip r:embed="rId6"/>
          <a:stretch/>
        </p:blipFill>
        <p:spPr>
          <a:xfrm>
            <a:off x="1905120" y="252360"/>
            <a:ext cx="1269720" cy="1879560"/>
          </a:xfrm>
          <a:prstGeom prst="rect">
            <a:avLst/>
          </a:prstGeom>
          <a:ln w="0">
            <a:noFill/>
          </a:ln>
        </p:spPr>
      </p:pic>
      <p:pic>
        <p:nvPicPr>
          <p:cNvPr id="321" name="dmumit_s" descr=""/>
          <p:cNvPicPr/>
          <p:nvPr/>
        </p:nvPicPr>
        <p:blipFill>
          <a:blip r:embed="rId7"/>
          <a:stretch/>
        </p:blipFill>
        <p:spPr>
          <a:xfrm>
            <a:off x="4495680" y="252360"/>
            <a:ext cx="1270080" cy="927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800600" y="5797440"/>
            <a:ext cx="2720880" cy="381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000" spc="-1" strike="noStrike">
                <a:solidFill>
                  <a:srgbClr val="dddfeb"/>
                </a:solidFill>
                <a:latin typeface="Arial"/>
                <a:cs typeface="Arial"/>
              </a:rPr>
              <a:t>צילומים: </a:t>
            </a:r>
            <a:r>
              <a:rPr b="1" i="1" lang="he-IL" sz="1600" spc="-1" strike="noStrike">
                <a:solidFill>
                  <a:srgbClr val="dddfeb"/>
                </a:solidFill>
                <a:latin typeface="Arial"/>
                <a:ea typeface="Arial"/>
              </a:rPr>
              <a:t>2002-2006</a:t>
            </a:r>
            <a:br>
              <a:rPr sz="2000"/>
            </a:br>
            <a:r>
              <a:rPr b="1" i="1" lang="he-IL" sz="2000" spc="-1" strike="noStrike">
                <a:solidFill>
                  <a:srgbClr val="dddfeb"/>
                </a:solidFill>
                <a:latin typeface="Arial"/>
                <a:cs typeface="Arial"/>
              </a:rPr>
              <a:t>מצגת: אוגוסט </a:t>
            </a:r>
            <a:r>
              <a:rPr b="1" i="1" lang="he-IL" sz="1600" spc="-1" strike="noStrike">
                <a:solidFill>
                  <a:srgbClr val="dddfeb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41640" y="5345280"/>
            <a:ext cx="2768400" cy="380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dddfeb"/>
                </a:solidFill>
                <a:latin typeface="Arial"/>
                <a:ea typeface="Arial"/>
              </a:rPr>
              <a:t>Guy Shach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5334120"/>
            <a:ext cx="2720880" cy="380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dddfeb"/>
                </a:solidFill>
                <a:latin typeface="Arial"/>
                <a:cs typeface="Arial"/>
              </a:rPr>
              <a:t>גיא שח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5938920"/>
            <a:ext cx="3205080" cy="380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ddfeb"/>
                </a:solidFill>
                <a:latin typeface="Arial"/>
                <a:ea typeface="Arial"/>
              </a:rPr>
              <a:t>Photos: 2002-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ddfeb"/>
                </a:solidFill>
                <a:latin typeface="Arial"/>
                <a:ea typeface="Arial"/>
              </a:rPr>
              <a:t>Presentation: August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4035600"/>
            <a:ext cx="7353360" cy="533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5c5ff"/>
                </a:solidFill>
                <a:uFillTx/>
                <a:latin typeface="Arial"/>
                <a:ea typeface="Arial"/>
                <a:hlinkClick r:id="rId8"/>
              </a:rPr>
              <a:t>http://www.</a:t>
            </a:r>
            <a:r>
              <a:rPr b="0" lang="en-US" sz="3200" spc="-1" strike="noStrike" u="sng">
                <a:solidFill>
                  <a:srgbClr val="c5c5ff"/>
                </a:solidFill>
                <a:uFillTx/>
                <a:latin typeface="Arial"/>
                <a:ea typeface="Arial"/>
                <a:hlinkClick r:id="rId9"/>
              </a:rPr>
              <a:t>guyshachar</a:t>
            </a:r>
            <a:r>
              <a:rPr b="0" lang="en-US" sz="3200" spc="-1" strike="noStrike" u="sng">
                <a:solidFill>
                  <a:srgbClr val="c5c5ff"/>
                </a:solidFill>
                <a:uFillTx/>
                <a:latin typeface="Arial"/>
                <a:ea typeface="Arial"/>
                <a:hlinkClick r:id="rId10"/>
              </a:rPr>
              <a:t>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48040" y="248904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dddfeb"/>
                </a:solidFill>
                <a:latin typeface="Arial"/>
                <a:cs typeface="Arial"/>
              </a:rPr>
              <a:t>מצגות נוספות בסדרת   </a:t>
            </a:r>
            <a:br>
              <a:rPr sz="2400"/>
            </a:br>
            <a:r>
              <a:rPr b="1" lang="he-IL" sz="2400" spc="-1" strike="noStrike">
                <a:solidFill>
                  <a:srgbClr val="dddfeb"/>
                </a:solidFill>
                <a:latin typeface="Arial"/>
                <a:ea typeface="Arial"/>
              </a:rPr>
              <a:t>"פרוייקט חיפה" ניתנות להורדה מהאתר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06360" y="243828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feb"/>
                </a:solidFill>
                <a:latin typeface="Arial"/>
                <a:ea typeface="David"/>
              </a:rPr>
              <a:t>Additional “Haifa Project” presentations are </a:t>
            </a:r>
            <a:br>
              <a:rPr sz="2000"/>
            </a:br>
            <a:r>
              <a:rPr b="1" lang="en-US" sz="2000" spc="-1" strike="noStrike">
                <a:solidFill>
                  <a:srgbClr val="dddfeb"/>
                </a:solidFill>
                <a:latin typeface="Arial"/>
                <a:ea typeface="David"/>
              </a:rPr>
              <a:t>available for download from the webs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43000" y="754200"/>
            <a:ext cx="6629400" cy="431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מצגת זו הנה יוזמה פרטית ואינה ממומנת ע"י גורם מסחרי כלשהו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95280"/>
            <a:ext cx="6927840" cy="507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"/>
                <a:ea typeface="Arial"/>
              </a:rPr>
              <a:t>This presentation is an independent initiative and is not sponsored by any commercial 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455760"/>
            <a:ext cx="8305920" cy="5790960"/>
          </a:xfrm>
          <a:prstGeom prst="rect">
            <a:avLst/>
          </a:prstGeom>
          <a:noFill/>
          <a:ln cap="sq"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armelit_0655vert" descr=""/>
          <p:cNvPicPr/>
          <p:nvPr/>
        </p:nvPicPr>
        <p:blipFill>
          <a:blip r:embed="rId1"/>
          <a:srcRect l="0" t="0" r="0" b="84160"/>
          <a:stretch/>
        </p:blipFill>
        <p:spPr>
          <a:xfrm>
            <a:off x="0" y="380880"/>
            <a:ext cx="3538440" cy="990720"/>
          </a:xfrm>
          <a:prstGeom prst="rect">
            <a:avLst/>
          </a:prstGeom>
          <a:ln w="0">
            <a:noFill/>
          </a:ln>
        </p:spPr>
      </p:pic>
      <p:pic>
        <p:nvPicPr>
          <p:cNvPr id="55" name="rakevel_5837" descr=""/>
          <p:cNvPicPr/>
          <p:nvPr/>
        </p:nvPicPr>
        <p:blipFill>
          <a:blip r:embed="rId2"/>
          <a:srcRect l="0" t="0" r="0" b="84160"/>
          <a:stretch/>
        </p:blipFill>
        <p:spPr>
          <a:xfrm>
            <a:off x="3691080" y="380880"/>
            <a:ext cx="1820880" cy="990720"/>
          </a:xfrm>
          <a:prstGeom prst="rect">
            <a:avLst/>
          </a:prstGeom>
          <a:ln w="0">
            <a:noFill/>
          </a:ln>
        </p:spPr>
      </p:pic>
      <p:pic>
        <p:nvPicPr>
          <p:cNvPr id="56" name="train_vert_5833" descr=""/>
          <p:cNvPicPr/>
          <p:nvPr/>
        </p:nvPicPr>
        <p:blipFill>
          <a:blip r:embed="rId3"/>
          <a:srcRect l="0" t="0" r="0" b="84160"/>
          <a:stretch/>
        </p:blipFill>
        <p:spPr>
          <a:xfrm>
            <a:off x="5672160" y="380880"/>
            <a:ext cx="3473280" cy="99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990720"/>
            <a:ext cx="7315200" cy="2108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ff9900"/>
                </a:solidFill>
                <a:latin typeface="Arial"/>
                <a:cs typeface="Arial"/>
              </a:rPr>
              <a:t>הודעה בדבר שימוש במצגת וזכויות יוצרים</a:t>
            </a:r>
            <a:br>
              <a:rPr sz="1600"/>
            </a:br>
            <a:r>
              <a:rPr b="1" lang="he-IL" sz="16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מה מותר לעשות: להפיץ את המצגת באמצעות דואר אלקטרוני ו/או לשמור במחשב האישי ו/או לאפשר הורדתה משרת אינטרנט ו/או להציג אותה בפני קהל, </a:t>
            </a:r>
            <a:br>
              <a:rPr sz="1600"/>
            </a:b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ובלבד שקובץ המצגת נשמר ללא כל שינו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על מצגת זו חלים חוקי זכויות יוצרי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אין לערוך את המצגת ו/או לעשות כל שימוש אחר בחומר (לרבות הכתוב והמצולם) </a:t>
            </a:r>
            <a:br>
              <a:rPr sz="1600"/>
            </a:b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ללא אישור מפורש בכתב מבעל זכויות היוצרים, גיא שחר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4014720"/>
            <a:ext cx="7543800" cy="2108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Arial"/>
              </a:rPr>
              <a:t>Legal Notic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"/>
                <a:ea typeface="Arial"/>
              </a:rPr>
              <a:t>You may: Send this presentation via email and/or keep it in your personal computer and/or post it on a web server and/or present it in front of an audience, providing that the original presentation file is used, without any alt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"/>
                <a:ea typeface="Arial"/>
              </a:rPr>
              <a:t>This presentation is protected by copyright law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"/>
                <a:ea typeface="Arial"/>
              </a:rPr>
              <a:t>Editing the presentation and/or using the material within it (including photographed and written material) is prohibited, unless permitted by a specific written permission from the copyrights holder, Guy Shach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455760"/>
            <a:ext cx="8305920" cy="5790960"/>
          </a:xfrm>
          <a:prstGeom prst="rect">
            <a:avLst/>
          </a:prstGeom>
          <a:noFill/>
          <a:ln cap="sq"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338880" y="5024520"/>
            <a:ext cx="2381400" cy="580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זה התחיל בטיול החובה ברכבת לחיפה ובחזרה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2000" y="5715000"/>
            <a:ext cx="3047760" cy="580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It started with the obligatory return train ride to Haifa</a:t>
            </a: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armelit_0655vert" descr=""/>
          <p:cNvPicPr/>
          <p:nvPr/>
        </p:nvPicPr>
        <p:blipFill>
          <a:blip r:embed="rId1"/>
          <a:srcRect l="0" t="0" r="0" b="84160"/>
          <a:stretch/>
        </p:blipFill>
        <p:spPr>
          <a:xfrm>
            <a:off x="0" y="380880"/>
            <a:ext cx="3538440" cy="990720"/>
          </a:xfrm>
          <a:prstGeom prst="rect">
            <a:avLst/>
          </a:prstGeom>
          <a:ln w="0">
            <a:noFill/>
          </a:ln>
        </p:spPr>
      </p:pic>
      <p:pic>
        <p:nvPicPr>
          <p:cNvPr id="60" name="rakevel_5837" descr=""/>
          <p:cNvPicPr/>
          <p:nvPr/>
        </p:nvPicPr>
        <p:blipFill>
          <a:blip r:embed="rId2"/>
          <a:srcRect l="0" t="0" r="0" b="84160"/>
          <a:stretch/>
        </p:blipFill>
        <p:spPr>
          <a:xfrm>
            <a:off x="3691080" y="380880"/>
            <a:ext cx="182088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train_vert_5833" descr=""/>
          <p:cNvPicPr/>
          <p:nvPr/>
        </p:nvPicPr>
        <p:blipFill>
          <a:blip r:embed="rId3"/>
          <a:srcRect l="0" t="0" r="0" b="28053"/>
          <a:stretch/>
        </p:blipFill>
        <p:spPr>
          <a:xfrm>
            <a:off x="5672160" y="380880"/>
            <a:ext cx="3473280" cy="4496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338880" y="5024520"/>
            <a:ext cx="2381400" cy="580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זה התחיל בטיול החובה ברכבת לחיפה ובחזרה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5715000"/>
            <a:ext cx="3047760" cy="580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It started with the obligatory return train ride to Haifa</a:t>
            </a: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41920" y="4905360"/>
            <a:ext cx="160020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עלייה לסטלה מאריס ב"ביצים של גוראל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76760" y="5775480"/>
            <a:ext cx="175248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Taking the cable car up to Stella M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armelit_0655vert" descr=""/>
          <p:cNvPicPr/>
          <p:nvPr/>
        </p:nvPicPr>
        <p:blipFill>
          <a:blip r:embed="rId1"/>
          <a:srcRect l="0" t="0" r="0" b="84160"/>
          <a:stretch/>
        </p:blipFill>
        <p:spPr>
          <a:xfrm>
            <a:off x="0" y="380880"/>
            <a:ext cx="3538440" cy="990720"/>
          </a:xfrm>
          <a:prstGeom prst="rect">
            <a:avLst/>
          </a:prstGeom>
          <a:ln w="0">
            <a:noFill/>
          </a:ln>
        </p:spPr>
      </p:pic>
      <p:pic>
        <p:nvPicPr>
          <p:cNvPr id="67" name="rakevel_5837" descr=""/>
          <p:cNvPicPr/>
          <p:nvPr/>
        </p:nvPicPr>
        <p:blipFill>
          <a:blip r:embed="rId2"/>
          <a:srcRect l="0" t="0" r="0" b="28053"/>
          <a:stretch/>
        </p:blipFill>
        <p:spPr>
          <a:xfrm>
            <a:off x="3691080" y="380880"/>
            <a:ext cx="1820880" cy="4496040"/>
          </a:xfrm>
          <a:prstGeom prst="rect">
            <a:avLst/>
          </a:prstGeom>
          <a:ln w="0">
            <a:noFill/>
          </a:ln>
        </p:spPr>
      </p:pic>
      <p:pic>
        <p:nvPicPr>
          <p:cNvPr id="68" name="train_vert_5833" descr=""/>
          <p:cNvPicPr/>
          <p:nvPr/>
        </p:nvPicPr>
        <p:blipFill>
          <a:blip r:embed="rId3"/>
          <a:srcRect l="0" t="0" r="0" b="28053"/>
          <a:stretch/>
        </p:blipFill>
        <p:spPr>
          <a:xfrm>
            <a:off x="5672160" y="380880"/>
            <a:ext cx="3473280" cy="4496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338880" y="5024520"/>
            <a:ext cx="2381400" cy="580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זה התחיל בטיול החובה ברכבת לחיפה ובחזרה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5715000"/>
            <a:ext cx="3047760" cy="580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It started with the obligatory return train ride to Haifa</a:t>
            </a: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41920" y="4905360"/>
            <a:ext cx="160020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עלייה לסטלה מאריס ב"ביצים של גוראל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76760" y="5775480"/>
            <a:ext cx="175248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Taking the cable car up to Stella M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3520" y="4950000"/>
            <a:ext cx="3200400" cy="1067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וכמובן המשך הסיור הרכוב ברכבת התחתית היחידה (עד היום...) </a:t>
            </a:r>
            <a:br>
              <a:rPr sz="1600"/>
            </a:br>
            <a:r>
              <a:rPr b="1" lang="he-IL" sz="1600" spc="-1" strike="noStrike">
                <a:solidFill>
                  <a:srgbClr val="ccccff"/>
                </a:solidFill>
                <a:latin typeface="Arial"/>
                <a:cs typeface="Arial"/>
              </a:rPr>
              <a:t>של ישרא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7120" y="5843520"/>
            <a:ext cx="3143160" cy="580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David"/>
              </a:rPr>
              <a:t>And boarding Israel’s one and only subwa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armelit_0655vert" descr=""/>
          <p:cNvPicPr/>
          <p:nvPr/>
        </p:nvPicPr>
        <p:blipFill>
          <a:blip r:embed="rId1"/>
          <a:srcRect l="0" t="0" r="0" b="28053"/>
          <a:stretch/>
        </p:blipFill>
        <p:spPr>
          <a:xfrm>
            <a:off x="0" y="380880"/>
            <a:ext cx="3538440" cy="4496040"/>
          </a:xfrm>
          <a:prstGeom prst="rect">
            <a:avLst/>
          </a:prstGeom>
          <a:ln w="0">
            <a:noFill/>
          </a:ln>
        </p:spPr>
      </p:pic>
      <p:pic>
        <p:nvPicPr>
          <p:cNvPr id="76" name="rakevel_5837" descr=""/>
          <p:cNvPicPr/>
          <p:nvPr/>
        </p:nvPicPr>
        <p:blipFill>
          <a:blip r:embed="rId2"/>
          <a:srcRect l="0" t="0" r="0" b="28053"/>
          <a:stretch/>
        </p:blipFill>
        <p:spPr>
          <a:xfrm>
            <a:off x="3691080" y="380880"/>
            <a:ext cx="1820880" cy="4496040"/>
          </a:xfrm>
          <a:prstGeom prst="rect">
            <a:avLst/>
          </a:prstGeom>
          <a:ln w="0">
            <a:noFill/>
          </a:ln>
        </p:spPr>
      </p:pic>
      <p:pic>
        <p:nvPicPr>
          <p:cNvPr id="77" name="train_vert_5833" descr=""/>
          <p:cNvPicPr/>
          <p:nvPr/>
        </p:nvPicPr>
        <p:blipFill>
          <a:blip r:embed="rId3"/>
          <a:srcRect l="0" t="0" r="0" b="28053"/>
          <a:stretch/>
        </p:blipFill>
        <p:spPr>
          <a:xfrm>
            <a:off x="5672160" y="380880"/>
            <a:ext cx="3473280" cy="4496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460"/>
            </a:gs>
            <a:gs pos="100000">
              <a:srgbClr val="231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rakevel_5837" descr=""/>
          <p:cNvPicPr/>
          <p:nvPr/>
        </p:nvPicPr>
        <p:blipFill>
          <a:blip r:embed="rId1"/>
          <a:stretch/>
        </p:blipFill>
        <p:spPr>
          <a:xfrm>
            <a:off x="3691080" y="380880"/>
            <a:ext cx="1820880" cy="6248520"/>
          </a:xfrm>
          <a:prstGeom prst="rect">
            <a:avLst/>
          </a:prstGeom>
          <a:ln w="0">
            <a:noFill/>
          </a:ln>
        </p:spPr>
      </p:pic>
      <p:pic>
        <p:nvPicPr>
          <p:cNvPr id="79" name="train_vert_5833" descr=""/>
          <p:cNvPicPr/>
          <p:nvPr/>
        </p:nvPicPr>
        <p:blipFill>
          <a:blip r:embed="rId2"/>
          <a:stretch/>
        </p:blipFill>
        <p:spPr>
          <a:xfrm>
            <a:off x="5670720" y="380880"/>
            <a:ext cx="3473280" cy="6248520"/>
          </a:xfrm>
          <a:prstGeom prst="rect">
            <a:avLst/>
          </a:prstGeom>
          <a:ln w="0">
            <a:noFill/>
          </a:ln>
        </p:spPr>
      </p:pic>
      <p:pic>
        <p:nvPicPr>
          <p:cNvPr id="80" name="carmelit_0655vert" descr=""/>
          <p:cNvPicPr/>
          <p:nvPr/>
        </p:nvPicPr>
        <p:blipFill>
          <a:blip r:embed="rId3"/>
          <a:stretch/>
        </p:blipFill>
        <p:spPr>
          <a:xfrm>
            <a:off x="0" y="380880"/>
            <a:ext cx="3538440" cy="6248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09:13:34Z</dcterms:created>
  <dc:creator>Guy Shachar</dc:creator>
  <dc:description>All pictures were taken by Guy Shachar.
Copyrights: Guy Shachar
The presentation may be used AS IS for the following purposes:
1. Private view.
2. Sending via email
3. Posting in web sites 
4. Educational purposes in educational institutions.
For any questions call +972-54-7237067</dc:description>
  <cp:keywords>Photography narration guy shachar picture haifa presentation slide show israel</cp:keywords>
  <dc:language>en-US</dc:language>
  <cp:lastModifiedBy>Guy Shachar</cp:lastModifiedBy>
  <dcterms:modified xsi:type="dcterms:W3CDTF">2008-08-09T08:22:18Z</dcterms:modified>
  <cp:revision>130</cp:revision>
  <dc:subject>Project Haifa - Introduction</dc:subject>
  <dc:title>Project Haifa - 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בעלים">
    <vt:lpwstr>גיא שחר</vt:lpwstr>
  </property>
</Properties>
</file>